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1C2C-65EA-439A-89B2-FC12EC211C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9AC7-B5BC-446F-95B1-574E3F6A2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5A95-9B7E-48AA-8204-4BF463640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FF9A-CCEF-4F8B-99D9-8A31E0128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94A6-C8AB-457A-9651-67CEA5A93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0ABC-950B-421D-B116-D519C8571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8131-B66A-42FB-A2C2-C34A5C6D6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47A8-FBCF-4E26-977C-EF71794DC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6778-B5B6-487E-8C3B-2808E361D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6074-4E90-4F48-A1DA-1ABBA562A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5471-C122-4D17-B1B2-897BA5401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AAD5-DEA5-4259-A884-C8AF17FB4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D7A7-C12D-450D-BF1B-2B019381B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DA63-339B-4C09-B2EF-C2FE51527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C626-FD5D-42C0-BD06-CC8573B4D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2D55-C6DA-46A7-A3CD-8818159C6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D258-D1CC-40B9-BD84-AF1430596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5199-1FCA-4EFE-8605-FF7876E20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240-9DD6-4E2E-A216-B57ACEBBB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80E9-3FF4-43F5-9947-3F7409A03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8F46-5FD9-4671-8ED1-2066E6716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9BF5-D9DC-4554-89AD-F77E99C43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BCD-9790-46D5-AB72-7D23D573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904-1458-46E9-B090-BB17FDC0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61B167-170D-485F-8421-21A9D730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CCF6B0-FC33-4AEE-A4C4-81145D3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D21517-7182-4ACF-951A-643A9A6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E7FC51-0B78-4420-AA13-37209447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6D3ECA-0C78-4098-A7B5-BA46240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70AE11-6F5D-405C-9129-3367F80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9A818B-C55B-4C1D-A99F-E365B585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AEB932-A81D-4F4F-BD0D-15993AEB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CB9290-B25B-412D-9A51-C9BF1BA6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98762-B712-4FDD-9775-4785E9C4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56A-E8A4-495C-892E-47EA4D9C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2DCBF-246C-4964-9631-734BABB7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1427C-8427-4BA4-9435-BD8E8156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18967-2F31-483B-B0F3-3F7D3144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B3443-B766-4139-A048-E9027CC4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2CFF8-8DCF-4AC1-B483-5AEDE81B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1299E-4B2A-45BD-AB12-B58FB5D0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E774F-CE8F-4490-BDD8-1B6498D2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BC36E-AF68-4719-8795-535729C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FD7DA-D1FA-41D3-A264-8F976373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8A8B8-9412-4A1C-898D-5BD13527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731-C6C3-4A11-B59B-AA51FD9A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E7EDF-CDF2-4DC2-B5B5-D5A1AFD1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4CFC4-E971-4F2B-A52C-4FFAA6CF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78784-ECD3-4351-A326-B47EA9C7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176D3-C9AF-49F0-B885-1F81B336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B6565-2A82-4A77-B406-DB5C2B74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619D5-34E0-4DE5-A7E6-F68CB93D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F1736-8288-428F-ACEB-02AA73B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CCCA5-255B-4EA1-B30D-B76E1F8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8008C-267F-49A4-B81B-77453E1C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5D976-5E80-48DE-85F4-B114BD2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EF56-8E5D-4820-9F9D-8AB539A1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DE49F-0D99-4471-B478-D8519BEC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B5AD3-BDAB-4623-BA14-33CEFB1E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A9EE5-F91E-4BF7-B00D-075AB607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1224-93D1-4BE8-A167-C17C9CD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CD32-5BCA-4D4F-9207-3129BF91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74A6-7F63-4C0F-A9F8-D7FEC7CF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4BE9-6331-4B8B-80B3-B8156F6F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3C8B-4043-4B74-A53F-1C241A93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CE2-B339-417E-86AB-84A59775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CD3-8A41-4DC3-B1F6-1A1CBA2A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7C3F-F8B0-4894-8EC7-5C25E6B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23D2-C479-49C5-B608-897F3128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CE35-6C91-43F3-8518-9D3D4301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BC3A-4471-4396-99A9-5E048529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6B35-D4B8-4BA6-A306-96652CFC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A39F-5DC8-447D-80C8-F9755BE4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1D53-5C2B-4BED-AD13-4AB54A42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C2E2-EA55-4F2B-8176-5445FDDE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A10F-0966-4714-930F-8C06BEE6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7DA1-98EB-428E-8DB2-DD689847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528-10D2-421D-A265-37951378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E30E-115E-4E9A-8551-D639D415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24BA-F44E-4002-880B-A44EE2CA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A0F4-4550-4195-AB60-DEAF016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115C-1627-48AF-9181-3E24FFCA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AE5AB-A7A1-426B-A204-1E40A013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9B78-072D-486B-8B32-E6EE0071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1668-584A-4BB5-88FC-3BB177D9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EFCFD-C5BA-4C10-8237-4B3FB8A3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29C6F-C0C8-438E-A984-66C96466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07994-339A-488F-A05D-6F75ED1A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A58-5AD1-449E-9A1B-AA317C67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49F9B-BE01-4375-AB00-62DF9E8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53BA6-520D-4156-907D-2292141A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8E426-4C7E-4645-8F14-6A0B5E3D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5067F-C672-44F8-8D12-2ECB29F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82728-61D6-47CD-AEFA-69CFF8B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3ACE6-44ED-498D-B5B8-3A825398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66607-ADAF-4F59-99DF-A1DF0BD0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BE165-7421-40FE-BAF7-DB0E2F8F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9461F-64DE-456C-8E0B-B3D11F35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D4128-9083-43A0-AD69-24D0338B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DA9-F3A8-40EE-A2A3-E4E53343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AED64-2E0B-418E-A7D1-EDF35B15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C8949-AAC3-437D-AC23-094C2FF3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E85C2-EBAD-43A7-8CF6-F97D66D8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CCDF6-30A8-4773-8205-C409CA06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2AC5E-C934-4A41-A817-61E0B21E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3C881-8FD7-402D-882F-27DE549E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6B6FF-3FE8-42BF-886C-157E7FF3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3E898-01E7-480E-A0E7-C2770986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BCADD-500A-4306-BDF7-5449B02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11DDF-FC64-4F77-9281-4FBF9866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B09-1956-4589-8730-77DE8320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9B225-0311-4182-8D25-29BCEF2E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B0866-3839-4666-AF28-8930BD43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3F319-B031-440E-BE34-643DA36D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78C88-5EDB-4DA0-B17D-EB2C73FC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F25C-AD40-4009-9F4E-B640F9F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6BB2C-CA0A-43CD-AD3D-3BA09089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38CEC-024C-4011-B6CE-7EC49F22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4039D-ED56-48A9-BDC7-A71694FE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1E9EC-88F0-4C8F-90EF-DAF50283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F2B6-9765-483C-BBB6-3D17897A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417-4B4E-483E-839F-0EC65C51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A220-47E2-407C-B269-0E9C4F54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74F6C-0994-477D-B56A-FC3E2A81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44E61-D494-48C7-8965-04F470D9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4DD2C-465A-4214-9ADA-48326621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B1E09-7E6A-4992-B6A0-F578203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210DA-63E0-4A18-BC58-CB21EB42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52869-BFAC-4BEC-8A4F-4684EC17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21CFB-5C7C-492F-B461-709C54F0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58D1A-5989-4682-AC70-E206D66C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4FFC2-A839-4E98-8A68-74E4EC3E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704-D72C-40D4-B069-8178BCCD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38C43-2046-447A-A491-60E931A3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6F8D4-F9C0-4904-B4D1-76910899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E8244-B0A2-45C2-AEC2-09AAA4BF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8924-7131-4C7D-A5D1-11C13FCC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83CF5-73B4-453E-9BC6-578483A9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891A9-5D61-46D8-AA9F-19AE1A17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392C0-4036-4D1A-8446-F7A7BDC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37EFD-F799-4060-83B7-E88BB5A8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E279D-B750-4BF5-99FE-6A552E75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9D23B-D8F1-46D3-A861-18D9D4EC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FA7-FD52-4FEA-9682-8F34FCA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CFF3-EF4E-44A1-930B-89687D74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0F893-A18E-4931-9227-2B71507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E3FC7-165E-4B0A-9DA1-0181BF2A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3B0FF-E5D8-4CF4-8214-EB409D94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86C01-4C5F-41A3-BC7C-F2CD490C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12817-629F-494E-9958-8A58736C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491B7-B375-4D4F-B10A-970A91E5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00CD06-20D4-4569-9CD4-6762F0E5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C9806C-413E-4B54-A2CB-E1FE987B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F882CA-CBB8-4C49-86B4-775FB3C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03B9-7D10-4ED1-A125-7340BC7E6A7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44D80F0E-3F08-4E03-B0F4-95BAFC637185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3BB2-9979-46B9-BCB9-61558C46B95B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3991-2B4E-4AA8-8942-228154DD53D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6874207B-1350-434C-A7E1-E724230FD29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692C-5D9E-4FCF-B5EF-9464941A3DFF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0714-EAD6-445E-BAE5-BD358C7047A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D1B0C4FB-4519-4000-BF64-E1FB24B9DA81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7FB7-358E-49EC-BA7D-4771775BAE79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5E2C-4916-4BC3-854F-5FFE2F8EA4BD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</a:t>
            </a:r>
            <a:fld id="{378F01D3-E014-4CDE-B083-5F1845678B00}" type="datetime10">
              <a:rPr b="0" lang="en-US" sz="2000" spc="-1" strike="noStrike">
                <a:solidFill>
                  <a:srgbClr val="ffffff"/>
                </a:solidFill>
                <a:latin typeface="Tw Cen MT"/>
              </a:rPr>
              <a:t>21:22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A116-94B5-4A0B-824E-AA09912D73F6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CBE4-0588-442C-A969-64AF25D44F9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6C36E6AE-BC09-4E90-AF65-902BFA21FF10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89A1-724A-4669-B726-2243903A428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03A0-B593-4924-9C88-E7C088FDC71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88A1E32E-C87A-4D0F-821A-103D1F9289CA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612E-D1C9-429D-82AF-27049391590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3D88-A333-4C46-BA4A-88AAF706624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D4F029AC-59AB-425C-B294-EF8EEAB54402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FC66-E872-4426-A05C-94743B271E5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BD4B-DD6D-488D-9D75-C5BE2580559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413302C0-1DF9-4FE0-86B3-93C6D323FD0D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13FE-5A5C-44E1-829A-B47C1B02CF5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9056-A67B-43D2-AA71-0A10B7497CB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57A6181D-0CAF-4613-B3B4-EA440D2FFB89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D00A-8869-4439-BD4E-C36242D1405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E81C-E844-4F2D-A3DD-B0E0024EC98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10ADF7FA-7782-4F03-8D72-72195B6514CA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FC00-5B02-48C0-A21F-00A9FE4D007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07B2-0535-472C-B59B-8252018ED41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CC46E90F-853A-4536-BD7F-F0B73E827F3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21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4247-6E5B-41E0-A4B1-3814234BD0F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1"/>
          <p:cNvGrpSpPr/>
          <p:nvPr/>
        </p:nvGrpSpPr>
        <p:grpSpPr>
          <a:xfrm>
            <a:off x="298440" y="-42840"/>
            <a:ext cx="8852040" cy="3084480"/>
            <a:chOff x="298440" y="-42840"/>
            <a:chExt cx="8852040" cy="3084480"/>
          </a:xfrm>
        </p:grpSpPr>
        <p:pic>
          <p:nvPicPr>
            <p:cNvPr id="490" name="Rectangle 1" descr=""/>
            <p:cNvPicPr/>
            <p:nvPr/>
          </p:nvPicPr>
          <p:blipFill>
            <a:blip r:embed="rId1"/>
            <a:stretch/>
          </p:blipFill>
          <p:spPr>
            <a:xfrm>
              <a:off x="298440" y="-42840"/>
              <a:ext cx="885204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54200" y="384480"/>
              <a:ext cx="7940520" cy="22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bddc3"/>
                  </a:solidFill>
                  <a:latin typeface="Calibri"/>
                </a:rPr>
                <a:t>Федеральное государственное бюджетное образовательное учреждение высшего образования Донбасская аграрная академия.</a:t>
              </a:r>
              <a:br>
                <a:rPr sz="1400"/>
              </a:br>
              <a:br>
                <a:rPr sz="3600"/>
              </a:br>
              <a:br>
                <a:rPr sz="3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Picture 8" descr="C:\Documents and Settings\Mist.DEB-6015B618F20\My Documents\My Pictures\Microsoft Clip Organizer\j0387196.jpg"/>
          <p:cNvPicPr/>
          <p:nvPr/>
        </p:nvPicPr>
        <p:blipFill>
          <a:blip r:embed="rId2"/>
          <a:stretch/>
        </p:blipFill>
        <p:spPr>
          <a:xfrm>
            <a:off x="3456000" y="1779480"/>
            <a:ext cx="6084720" cy="5475240"/>
          </a:xfrm>
          <a:prstGeom prst="rect">
            <a:avLst/>
          </a:prstGeom>
          <a:ln w="0">
            <a:noFill/>
          </a:ln>
        </p:spPr>
      </p:pic>
      <p:sp>
        <p:nvSpPr>
          <p:cNvPr id="493" name="Footer Placeholder 9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981080" y="1981080"/>
          <a:ext cx="5334120" cy="274320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2f2f2"/>
                          </a:solidFill>
                          <a:latin typeface="Bookman Old Style"/>
                        </a:rPr>
                        <a:t>МЕЖДУНАРОДНОЕ ПРАВ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Text Box 71"/>
          <p:cNvSpPr/>
          <p:nvPr/>
        </p:nvSpPr>
        <p:spPr>
          <a:xfrm>
            <a:off x="3733920" y="6095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еевка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C305-0CC4-4CA0-BEB0-9E8AB0B902F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Рисунок 3" descr="17186183_145930146.pdf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F9F7-4AA8-45ED-8C23-4E4DF55C52D7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Дипломатическое и консульское право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8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"/>
          <p:cNvSpPr/>
          <p:nvPr/>
        </p:nvSpPr>
        <p:spPr>
          <a:xfrm>
            <a:off x="533520" y="7621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яя политика и дипломатия. Понятие и источники дипломатического и консульского права. Органов внешних сношений. Муниципальные власти иностранных отношений. Иностранных органов внешних с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пломатические представительства. Процедура для формирования и функции diplomatič этих отделений. Процедура назначения и отзыва руководителя diplomatič-tion представительства. Классы и ряды дипломатических представителей. Структура и персонал дипломатических миссий. Дипломатический корп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илегии и иммунитеты дипломатического представительства. Личные привилегии и иммунитеты дипломатических агентов и сотрудников. Привилегии и иммунитеты главы дипломатического представительства. В обязанности дипломатического агента по отношению к государ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миссия. Порядок назначения, функций и привиле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ские представительства. Понятие и функции консульских институтов. Виды консульских офисов и классы консулов. Консульский корпус. Консульских привилегий и иммунит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3549-8937-42D4-A711-48F1D30EE4C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5" descr="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CDC9-5574-49A4-A50F-B2D69391F942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Территория в международном праве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4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7"/>
          <p:cNvSpPr/>
          <p:nvPr/>
        </p:nvSpPr>
        <p:spPr>
          <a:xfrm>
            <a:off x="533520" y="76212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тически однородные типы территорий. Концепция и структура государственной территории. Государственные границы. Делимитации государственной границы. Делимитации территорий государств-членов. Способы изменения государственной террит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е морское право. Внутренних и территориальных водах. Международно-правового режима открытого моря. Экономическая зона. Континентального шельфа. Правовой режим международных каналов и проливов. Международных рек. Режим работы суда международной реки. Международный режим Антарктики. Правовой режим Ар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ой режим воздушного пространства и космического пространства. Сотрудничество в значительной степени извлекли от освоения космического пространства. Статус астронав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486D-387B-4947-9E9B-A4EC44B7117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Рисунок 3" descr="27206857_396915105.pdf-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A89B-B64A-4906-9054-24075F6FCA60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Международное гуманитарное право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0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41" name="TextBox 7"/>
          <p:cNvSpPr/>
          <p:nvPr/>
        </p:nvSpPr>
        <p:spPr>
          <a:xfrm>
            <a:off x="533520" y="76212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 и задачи международного правового регулирования вооруженных конфликтов. Международно-правовые акты по вопросам вооруженных конфли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войны и его правовые последствия. Театр военных действий. Театр воен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и вооруженных конфликтов. Правовой статус комбата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и методы ведения войны. Запрещенные и запрещенных средств и методов ведения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ая правовая защита жертв войны. Понятие жертв войны. Субсидии, правовая защита раненых пациентов. Международная правовая защита. Международная правовая защита гражданского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йтралитет в войне. Постоянный нейтралитет. Нейтралитет в этой войне. Договорные нейтрал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цу войны и его правовые последствия. Перемирие и его типы. Капитуляция. Безоговорочной капит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вная ответственность физических лиц за преступления против мира и нации экономики, за военные преступления. Главных военных преступников. Непосредственных участников международных преступлений. Международные военные трибун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8AB2-3172-4F76-8E3F-28A540F3C63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5" descr="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05D5-9239-433C-8D07-FCBCE80DC5FC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Международное сотрудничество в борьбе с преступностью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6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7"/>
          <p:cNvSpPr/>
          <p:nvPr/>
        </p:nvSpPr>
        <p:spPr>
          <a:xfrm>
            <a:off x="533520" y="685800"/>
            <a:ext cx="8305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ы, лежащие в основе международного сотрудничества в борьбе с преступностью. Основные юридические формы сотрудничества между государствами-членами в эт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и виды международных уголовных преступлений. Некоторые типы преступлений международного характера. Рабство, работорговля и другие формы торговли людьми. Незаконное производство и оборот наркотических средств и психотропных веществ. Пиратство на море (морской разбой). Незаконный захват воздушного судна или другими незаконными актами, направленными против безопасности гражданской авиации. Террор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ридическая помощь по уголовным делам. Доставка (выдача) преступников. Правовые основания для экстрадиции. Вопросы экс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 с преступностью и международной организации. Генеральной Ассамблеи ООН. Экономический и Социальный Совет. Конгрессы Организации Объединенных Наций по предупреждению преступности и обращению с правонарушителями. ООН, Комитет по предупреждению преступности нищеты и борьбы с ней. специализированные учреждения Организации Объединенных Н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уголовной полиции Интерпол Международная. Взаимодействие Интерпола с полицейскими службами в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6520-421D-4202-AEFA-9E01995409F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Рисунок 6" descr="37119818_131738404.pdf-1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8" descr="C:\Documents and Settings\Mist.DEB-6015B618F20\My Documents\My Pictures\Microsoft Clip Organizer\j0387196.jpg"/>
          <p:cNvPicPr/>
          <p:nvPr/>
        </p:nvPicPr>
        <p:blipFill>
          <a:blip r:embed="rId1">
            <a:lum contrast="6000"/>
          </a:blip>
          <a:srcRect l="0" t="-7905" r="8801" b="-3314"/>
          <a:stretch/>
        </p:blipFill>
        <p:spPr>
          <a:xfrm>
            <a:off x="3459240" y="990720"/>
            <a:ext cx="5684760" cy="602460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4" descr="slide-0.jpg"/>
          <p:cNvPicPr/>
          <p:nvPr/>
        </p:nvPicPr>
        <p:blipFill>
          <a:blip r:embed="rId2"/>
          <a:stretch/>
        </p:blipFill>
        <p:spPr>
          <a:xfrm>
            <a:off x="1523880" y="762120"/>
            <a:ext cx="6242040" cy="4674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7D17-025B-4E4A-A2B0-AFF86772571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  <a:ea typeface="宋体"/>
              </a:rPr>
              <a:t>Содержание учебного материала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Модуль 1 Теоретические принципы международного права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1. Понятие, сущность и системы международного публичного прав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2. Субъекты международного прав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3. Право международных договоров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4. Право международных организаций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Модуль 2 Специальная часть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5. Дипломатическое и консульское прав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6. Территория в международном праве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7. Международное гуманитарное прав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8. Международное сотрудничество в борьбе с преступностью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9" name="Рисунок 4" descr="mezhdunarodnie_otnosheniya.jpg"/>
          <p:cNvPicPr/>
          <p:nvPr/>
        </p:nvPicPr>
        <p:blipFill>
          <a:blip r:embed="rId1"/>
          <a:stretch/>
        </p:blipFill>
        <p:spPr>
          <a:xfrm>
            <a:off x="6778800" y="2968560"/>
            <a:ext cx="2145960" cy="1274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8904-ADC8-420C-BA63-C854B1632767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Понятие, сущность и системы международного публичного права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2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03" name="TextBox 7"/>
          <p:cNvSpPr/>
          <p:nvPr/>
        </p:nvSpPr>
        <p:spPr>
          <a:xfrm>
            <a:off x="533520" y="1295280"/>
            <a:ext cx="830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международного права, ее особенности и социального характера. Этапы формирования современного международного права. Особенности международного права. В системе международного права. Источники международного права, их классификации и общие характерис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-правовые отношения. Особенности норм международного права, порядок их создания и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значения международного права и в рамках закона. Отношение международного публичного и частного международного 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инципы международного права. Классификация основных принципов половины. Принципы Устава Организации Объединенных Наций. Основные принципы мира и международной безопасности и семьи. Основные принципы международного сотрудничества. Основные принципы защиты прав народов, Наций и людьми. Роль принципов международного права в развитие международных отношений и международного 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A32F-E8FE-4998-90FA-2666BE98480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Международное право – это совокупность юридических принципов и норм, регулирующих отношения между государствами и другими субъектами международного права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Система международного права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295280" y="2286000"/>
          <a:ext cx="6629400" cy="426708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</a:tblGrid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ждународное воздушн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пломатическое и консульск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ждународное морск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ое гуманитарн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ое уголовн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ое право охраны окружающе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 международных догов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 международных 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 прав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 spd="med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C3C6-4AF9-4783-A3B4-06382CE4A875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Субъекты международного права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9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10" name="TextBox 7"/>
          <p:cNvSpPr/>
          <p:nvPr/>
        </p:nvSpPr>
        <p:spPr>
          <a:xfrm>
            <a:off x="533520" y="129528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и виды субъектов международного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о является основным субъектом международного права. Государственный суверенитет: понятие и признаки. Территория в международном праве. На территории, которая находится под суверенитетом государства. Международные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международной правосубъектности государства и народы, которые борются за независимость. Международная правосубъектность юридических и физических лиц. Международные организации: концепции, типы и их роль в современных международных отношениях. Личность международных организ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е юридическое признание: концепция и типы. Способы принятия. Между национальными правопреемства государств. Причины возникновения правопрее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943-A445-4EC3-80CF-9AE99EC8E5A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Субъекты международного права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3880" y="1752480"/>
          <a:ext cx="6172200" cy="373392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124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веренные (первич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суверенные (производ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рющиеся за независимость н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оподобные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 spd="med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7AB7-9B95-4EF2-B87D-E98A2E816336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Право международных договоров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6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7"/>
          <p:cNvSpPr/>
          <p:nvPr/>
        </p:nvSpPr>
        <p:spPr>
          <a:xfrm>
            <a:off x="533520" y="762120"/>
            <a:ext cx="8305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договоров, ее источники и кодификация. Заключать договоры. Стороны договора. Право на участие в соглашении. Типы договоров. Контракт и третьим государ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ение соглашений. Порядок заключения договоров. Полномочий. Стадии контрактов. Установления аутентичности текста. Подписание соглашения. Ратификация Договора. Утверждение соглашения. Присоединение к договорам секретариат. Пред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и структура договоров. Язык контр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договоров. Принцип «соглашения должны осуществляться.» Внутригосударственный закон и присоединения к международным договорам. Действие договора во времени и пространстве. Расширение, реконструкция контра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кование Соглашения. Аутентичное толкование. Международное толкование. Внутригосударственное толкование. Основные принципы толк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действительности и недействительности договора. Последствия недействительности 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и и методы завершения. Срок действия договоров - Секретариата. Исполнение контракта. О денонсации Соглашения. Отмена международных соглашений. Прекращение существования государства или изменять его статус. Коренное изменение обстоятельств. Приостановление действия соглашения. Влияние войны на догов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E3B6-8B99-437F-BB9F-6E256BC4605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5" descr="img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EDDD-E604-4D47-ADA4-89F585A28100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Право международных организаций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2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7"/>
          <p:cNvSpPr/>
          <p:nvPr/>
        </p:nvSpPr>
        <p:spPr>
          <a:xfrm>
            <a:off x="533520" y="762120"/>
            <a:ext cx="830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и источники права международных организаций. Классификация inte Аль. Процедура для формирования и прекращения деятельности международных организаций. Компетенция, функции и полномочия международных организ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ство в международных организациях. Органы международной организации, порядок их формирования, компетенция и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Объединенных Наций: цели и принципы деятельности. История создания Организации Объединенных Наций. Системы ООН. Членство в Организации Объединенных Наций. Основные органы Организации Объединенных Наций. Учреждения ООН-Ваня б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региональных, региональных и международных организаций. Международные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0:00Z</dcterms:created>
  <dc:creator/>
  <dc:description/>
  <dc:language>en-US</dc:language>
  <cp:lastModifiedBy/>
  <dcterms:modified xsi:type="dcterms:W3CDTF">2023-08-22T10:45:42Z</dcterms:modified>
  <cp:revision>1</cp:revision>
  <dc:subject/>
  <dc:title>LLP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89181033</vt:lpwstr>
  </property>
</Properties>
</file>